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657-D3B7-42D2-A5AC-8444613C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81C-CE9B-4122-B57E-34C6F54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A5632-E6B0-4852-AE70-EE1B609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99597-4A73-45C1-B5B0-54E14D66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D58FE-5865-4745-BD65-997C9ED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31592-1A25-4F0B-BB43-B197562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D122C-D18D-425C-A734-E5D95AE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FE9A9-2586-40BF-8325-74F5ECF0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98CA1-65B6-42AB-90FF-B24472C7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4A8B3-AF70-4911-801B-CE23F653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9086D-475E-483C-B11D-C9D6BA33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46371-4645-416F-9DD7-64E10EEB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851-18EA-4755-9FB1-7D3E899F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DC711-BCED-4514-B094-8ABF0A2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62DA3-2AC0-4DC4-A6A8-3F466DB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37253-FFE3-4B4D-949B-7D64F83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6011C-26E7-4B2F-8EA3-9317D927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281C8-D5E1-428B-9629-AA6D237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D1FC4-7655-42F8-B357-9D90F88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72DBC-A11F-4407-A296-1940EF88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6E93-9E33-4812-B478-9F682FC6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38D5F-A148-47C6-86E2-924AED47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24ABB-3E4D-4701-ACD8-95BB91C4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0E1-B987-438B-8E22-6D6A609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90DDD-35A2-4765-BFDE-3109F935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74CA7-BFA6-4D03-A33B-B9ED86A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269F2-B310-429F-BA21-EF60910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6080-0376-4849-8D7E-432CAA5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047F6-C8D0-4FDA-96EB-0FB9F778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FD1A-A44F-4AAA-9A6C-93024485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54B6D-3AC3-4CB0-B0E5-4106243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2BFDC-6459-4E59-9C7C-D5B402E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AB94F-90B8-47A7-871D-EA63D4E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44167-0E7E-4AAB-B3CC-D47431E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4429-1597-4411-9AF6-348FF2AE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039B0-BFFA-4B14-BE48-4D84E65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60AD3-D92F-485F-9230-9D2EE3B5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B9308-1E1B-4344-877F-A8E74B60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E486A-9000-4F11-879A-3F7A1D55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95E75-8D14-4580-99FB-92DEF10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9D33C-49D9-45B3-AA87-BD11824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4B442-4D97-483D-9B3E-F5849BA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63571-9DCC-48B8-8E26-6490F596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BF85C-F98F-4DB7-ACD9-3A1DC12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89EDE-8171-4EE8-A4F0-C67565F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DC7F-19B0-425F-BC8E-CD65749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8060A-4F42-47D8-B550-0FFEF651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02C67-A677-41CB-917B-24C69E5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BE4C4-EC60-4A2F-92CD-0360BCD7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E711A-BA9D-451B-A4D5-8812F115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60E92-5BF9-41ED-9C78-1537DED1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19BA-C2F8-405B-95F1-BE818AC2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C0C2-26C6-486D-B0A6-7F505908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5DCB-9CDA-4C73-8462-ED91E9C7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CF99-83F2-4D40-986C-010A63A6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41D1-C236-46E7-B891-B7799EA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9B9-9D1F-449A-9DEF-F8CC9E10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D551-53C3-4A37-8C16-425CBEF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FAAA-0A01-44B2-8D65-74FD3C7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8B04-7843-4C36-955F-BA93C7DE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E78D-7A56-4E20-A7F5-3F8DDB75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F6F-4E1F-4B9D-9144-485437D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AB48-1A2C-40E3-9D98-C48F920A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91D2-7DEA-4C17-B941-3CEB195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CF1B-E81F-4467-B6ED-B90DCB3F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2941-958B-4A06-AD4B-68EFA9FE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B596-420E-420F-B0CC-CB0FC2B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36B-0536-4574-A6DB-6E699131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F918-EB2A-4C17-BA48-CC107DE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CB5D-D071-43A9-9351-B8E9BB3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7400-8C8D-4D60-82AF-C9FCB1B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3951-EC6A-43D6-9567-6A4B7AE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FB56-81F6-4610-8A54-F2D81C6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1635-5BA8-4C2C-9CBB-E1FCB5C7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0DE1-12F8-4C57-A230-ADECBF01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7D21-C366-447F-985F-01610A73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B4C4-CE0B-4042-8FD8-2136A87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1A0D-3B22-41CD-B2F6-F0D069F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523-0DDC-4102-80D7-D16F1FCF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E416-BE82-4450-917F-D5AD94F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9E10-D033-471C-B144-5D67FF77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4BB7-C7A9-4768-8AAD-D0FE7DA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484E-B290-4110-95CB-7910A3C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AED8-6503-4C9D-9F1F-726A033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EF92-93B0-46BB-B0CF-7BB1D5B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2E04-3F1E-4615-B9CA-98F5A13B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8545-BD7C-4D17-84B9-EFBE31C0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2CBF-CBFF-43FE-BE9D-E5EFFEC4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BB6A-C264-4BFC-845D-071356FE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C4B-C76E-4B20-BD81-915D07FE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424F-964A-431B-B58D-A37006D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B5A8-139F-46B4-B14B-D65752A1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303B-5234-4675-848F-50E9D32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608A-334F-482D-8183-CE16C082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9B80-E4A9-4D7A-8EE7-A3AD34D3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F7FB8-AEA6-4E68-8C48-E26788A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20E9-6D81-4959-8B00-15C2890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74E8-0ABE-454B-AA66-0C0FBA3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7E0B-8803-4DE4-9825-287D3BDB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4B281-B194-424F-8006-7C124030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9C2-1E5C-4CE8-A8D4-922F4EA1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A269-69C0-4C40-B1D9-8012108C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159C-9670-4BC8-AE9D-9E6DC7E5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90FD-45CA-475C-A9F3-BDBA5B5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DFA8-D303-4C39-903A-893FFAC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0FAD-1E60-4B55-98F0-5FB5FFEB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CBD3-7719-40A8-A4D4-52B618FF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6B7B-2EFF-40C1-9C2D-F92E3BA8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180E3-3C41-4FFC-BD55-F21509B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B0D8B-E950-4EC0-9E1E-96C8B47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8E6CA-0C66-4486-A039-0425EDD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E2D-31FA-444D-B6EB-3BE7164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62A3-D33B-4CA4-94E5-CD8DA82A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3149-901B-4705-9BD5-72DAFA21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3888-4644-4E80-93DE-9D2BCC78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A8C2-757B-48A3-88BE-735B6CD5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E071-AEA1-4E6E-9DA7-A1D21082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4B0A-0E9B-4964-A5E5-A3E370DE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36E3-6C04-4565-949D-1938AD9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2736-DCD3-41A6-A178-00F95F9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97AE3-7D04-464E-A8FD-F41E9C27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A3F8-1113-484A-94E3-11B973F0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689-3252-4320-8750-ABDE776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A4EBA-F98F-43E0-B93D-16BE03C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C2B0-2A69-456D-9D55-62F19F3D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0841-9447-4381-89DD-0E5727D7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C5EE-4509-4407-A2F4-42E5A477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CE8E-D206-489C-B50C-5F3CEBB7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1508-C3F0-47FC-83D7-E497E5E2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8EB71-23F2-4435-8C55-736D1133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7ABA2-F995-4BF2-9F91-2077A72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D4CE-52E4-4475-938B-EC1FC8F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51C7A-803D-4C79-8B4B-277857C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C13-109A-466A-B9FB-2F85FDFE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1D27-F8C1-4858-A47E-76E95E77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8408-34CC-4F7A-A540-4B053290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0AC51-A76F-40D3-A9B2-EC76C59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1799C-A702-4EC3-B5CF-0B9DE83A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0F35-7266-4823-BCEA-97DFF94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92B13-ADB3-4E9E-8810-A536FE20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7E186-8818-45DC-A091-142C0FAF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4CBDF-85A8-44E1-9CBB-8FAE4F45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F7F18-0EF1-4BDE-902B-C0D3D2FC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C82C-D8AB-4496-85DC-0342982B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704B-F86A-422A-B2AD-1A3FEAD396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07E6-2135-4850-8589-0F79C37B68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859-4366-4FD0-9BEF-66650F23D7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A33B-ADD7-4D67-AA44-950B4974EB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CAA-7197-48F3-9D38-B15DBD378B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766-9DC7-439E-BB91-FDC5DB6F54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D2C7-E942-4354-8AB4-AFC5643AF5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0AD2-058F-4521-91D2-16AC09CC02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F44-9BBB-4530-ABAF-C36DDB3772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AD6-39F7-4622-9E71-4898219342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892A-C7D2-4B6E-9BD2-361B65EF03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ADB-28FF-4F04-AE27-5F085D5FEB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2 Dnes teba, O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na neb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nes teba, Otče na nebi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hcem chváliť, piesňou veleb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en pamätný deň stvor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d tebou skláňam kol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vzácny nám je tento deň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eď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žiadn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úzkos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taros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i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 výhľad viery nekry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Bohu chvála v srdci zn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tvojho Slova pravdy j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cestu svieti, vedi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y iste k cieľu dôj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tvár raz tvoju uzri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vyplní sa túžob s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stála radosť, večný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Spasiteľ nás priví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dá nám veniec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19:24Z</dcterms:modified>
  <cp:revision>23</cp:revision>
  <dc:subject/>
  <dc:title>Je veľký náš Pán, on slávy je Kráľ Nech do všetkých strán  spev vrúcnych znie chvál.</dc:title>
</cp:coreProperties>
</file>